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whoosh.wav" ContentType="audio/x-wav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7AB1-78A8-49B0-BB04-A7B5AC7CAC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 and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 and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is transferred to the sti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is transferred to the sti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of one plant is transferred to the the stigma of a different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of one plant is transferred to the the stigma of a different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nd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nd/Insect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/Insect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3735-52B2-43D0-892D-8F41810C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3BE0-6EA1-47A3-A1F8-C06C9AD2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764-97C3-45B2-81AD-A7345C96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F9FE-05A3-49A7-8559-D416F383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8A1-62B8-4A7D-B9F2-EBF9069D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6A2-7A2B-40D1-825F-627C54C0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03BE-7945-4467-B144-7365C315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315-6785-47E1-B76E-47FD8967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31FE-7ECF-4636-A1FF-F3B47722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D5E-9176-4163-9679-94230191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11B-E570-44AF-AFB7-E639B106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38A9-F937-47E8-8779-62F301A4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184D-9EAF-4780-B436-491AE47379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lination and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lf-poll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len from the anther is transferred to the st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image?id=95387&amp;rendTypeId=34"/>
          <p:cNvPicPr/>
          <p:nvPr/>
        </p:nvPicPr>
        <p:blipFill>
          <a:blip r:embed="rId1"/>
          <a:stretch/>
        </p:blipFill>
        <p:spPr>
          <a:xfrm>
            <a:off x="4718160" y="1523880"/>
            <a:ext cx="4197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oss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en from the anther of one plant is transferred to the the stigma of a different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image?id=95388&amp;rendTypeId=34"/>
          <p:cNvPicPr/>
          <p:nvPr/>
        </p:nvPicPr>
        <p:blipFill>
          <a:blip r:embed="rId1"/>
          <a:stretch/>
        </p:blipFill>
        <p:spPr>
          <a:xfrm>
            <a:off x="1371600" y="34290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685800"/>
          <a:ext cx="8229600" cy="6172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mall petals, often brown or dull gre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s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c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en produced in great quant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cause most does not reach another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en very light and smoot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 it can be blown in the w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thers loosely attached and dangle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release pollen into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gma hangs outside the flower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catch the drifting p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gma feathery or net 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catch the drifting poll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77"/>
          <p:cNvSpPr/>
          <p:nvPr/>
        </p:nvSpPr>
        <p:spPr>
          <a:xfrm>
            <a:off x="1600200" y="15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ind Pollinated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ind/Insect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5238720" y="2057400"/>
            <a:ext cx="34480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04920" y="762120"/>
          <a:ext cx="8534160" cy="590688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arge, brightly coloured pe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often sweetly sc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sually contain nec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oderate quantity of p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ess wastage than with wind poll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ollen often sticky or sp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stick to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nthers firm and insid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brush agains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igma inside th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o that the insect brushes against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igma has sticky co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ollen sticks to i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51"/>
          <p:cNvSpPr/>
          <p:nvPr/>
        </p:nvSpPr>
        <p:spPr>
          <a:xfrm>
            <a:off x="1981080" y="152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sect Pollinated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image?id=63305&amp;rendTypeId=4"/>
          <p:cNvPicPr/>
          <p:nvPr/>
        </p:nvPicPr>
        <p:blipFill>
          <a:blip r:embed="rId1"/>
          <a:srcRect l="0" t="8926" r="0" b="5121"/>
          <a:stretch/>
        </p:blipFill>
        <p:spPr>
          <a:xfrm>
            <a:off x="914400" y="1297080"/>
            <a:ext cx="768024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8:35:09Z</dcterms:created>
  <dc:creator>hhashmi</dc:creator>
  <dc:description/>
  <dc:language>en-US</dc:language>
  <cp:lastModifiedBy>RomaK</cp:lastModifiedBy>
  <dcterms:modified xsi:type="dcterms:W3CDTF">2015-09-04T11:08:03Z</dcterms:modified>
  <cp:revision>10</cp:revision>
  <dc:subject/>
  <dc:title>Pollination and Fertilisation</dc:title>
</cp:coreProperties>
</file>